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C7B-18A3-4EB2-BFCE-350CD2CF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D2FC-7D77-47BF-8AC7-FE2DDE53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30C9-BE01-40CB-9184-26054488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A23A-7506-46C0-AFCB-E9827B50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B5C2-5EB6-4FD5-90F0-2EDAC257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64D6-1978-4B65-B381-5AAC6BEE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4C71-4F4B-42BF-B946-B125314B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3425-5D80-4896-B253-5C3ABECB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CCBF-0CBB-4C62-9C37-759D8267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3ACF-C940-4786-8E64-307DEEA1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7FAE-FF87-4565-BC2B-83EDE7E1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91E6-267C-4BD8-BB07-506AC52A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D201-B7C4-4E53-B9F8-B9BEBCB1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A864-EE5F-4E0D-AE60-94ED6A89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59B1-4FCA-4707-82FF-F8B65513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0C45-E4BD-4FA7-A772-F055675B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2AD0-E450-405A-9833-DE9C9B46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42EB-1733-45D7-8937-F344300D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39C-BED3-4767-B659-EC8CC284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959-9CA5-4610-A486-3B4BDCEB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88E5-71D0-409E-945F-48247A89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9B2-BF03-48B7-8D0F-1275C019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F6FE-ACE3-4E2E-885E-2A486A80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4A15-9F6D-4155-B040-34A7CBCD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35CC-2B1B-40F8-982F-C342A513A1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5B95-8CC4-4466-B556-6094D45623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4751280" cy="52117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144000" bIns="144000" anchor="t">
            <a:normAutofit/>
          </a:bodyPr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o met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 alternativă de predare-învăţare-evaluare prin care se 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zvo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elev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bilităţi şi competenţ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nivel superior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are secolului XX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e comuni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r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în echip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abil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te de adap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ire criti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istemi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7"/>
          <p:cNvSpPr txBox="1"/>
          <p:nvPr/>
        </p:nvSpPr>
        <p:spPr>
          <a:xfrm>
            <a:off x="324000" y="260280"/>
            <a:ext cx="727236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Învăţarea prin proiecte</a:t>
            </a:r>
            <a:endParaRPr b="0" lang="en-US" sz="14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Picture 9" descr="http://www.perrypl.okpls.org/computer.jpg"/>
          <p:cNvPicPr/>
          <p:nvPr/>
        </p:nvPicPr>
        <p:blipFill>
          <a:blip r:embed="rId1"/>
          <a:stretch/>
        </p:blipFill>
        <p:spPr>
          <a:xfrm>
            <a:off x="5148360" y="1916280"/>
            <a:ext cx="347184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500"/>
                            </p:stCondLst>
                            <p:childTnLst>
                              <p:par>
                                <p:cTn id="4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7905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  <a:ea typeface="MS Mincho"/>
              </a:rPr>
              <a:t>Este grea matematica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3960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or care răsp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 oferim oportunita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a depăşi greutăţile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printr-o altfel de abord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şi de a împărtăşi cu ceilalţi satisfacţia obţinerii rezultatului aştep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7640" y="1628280"/>
            <a:ext cx="3886200" cy="42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or care răsp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 oferim oportunita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a obţine rezult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printr-o altfel de abord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i de a exp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meniul propus î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ice direcţie dore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3702240" y="4430520"/>
            <a:ext cx="1740960" cy="1738080"/>
            <a:chOff x="3702240" y="4430520"/>
            <a:chExt cx="1740960" cy="1738080"/>
          </a:xfrm>
        </p:grpSpPr>
        <p:sp>
          <p:nvSpPr>
            <p:cNvPr id="98" name="AutoShape 6"/>
            <p:cNvSpPr/>
            <p:nvPr/>
          </p:nvSpPr>
          <p:spPr>
            <a:xfrm rot="21243000">
              <a:off x="3779640" y="4508280"/>
              <a:ext cx="1585440" cy="15822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99" name="WordArt 7"/>
            <p:cNvSpPr txBox="1"/>
            <p:nvPr/>
          </p:nvSpPr>
          <p:spPr>
            <a:xfrm>
              <a:off x="4098240" y="5081760"/>
              <a:ext cx="835200" cy="55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cap="rnd" w="0">
                    <a:solidFill>
                      <a:srgbClr val="000080"/>
                    </a:solidFill>
                    <a:custDash>
                      <a:ds d="100000" sp="1000"/>
                    </a:custDash>
                  </a:ln>
                  <a:solidFill>
                    <a:srgbClr val="000000"/>
                  </a:solidFill>
                  <a:latin typeface="Arial Black"/>
                </a:rPr>
                <a:t>garantat 100%</a:t>
              </a:r>
              <a:endParaRPr b="0" lang="en-US" sz="1400" spc="1" strike="noStrike">
                <a:ln cap="rnd" w="0">
                  <a:solidFill>
                    <a:srgbClr val="000080"/>
                  </a:solidFill>
                  <a:custDash>
                    <a:ds d="100000" sp="1000"/>
                  </a:custDash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02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  <a:ea typeface="MS Mincho"/>
              </a:rPr>
              <a:t>Rolul profesorulu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51116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9450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ste o resursă în cadrul grupului, facilitând învăţarea elev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9450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curajează şi sprijină implicarea elevilor în propria form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9450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ză materiale suport, de sprijin pentru el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9450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ză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strumente de evaluare pentru încurajarea autonomiei în învăţar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a elev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9450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valuează pemanent activităţile elev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MP900448685[2]"/>
          <p:cNvPicPr/>
          <p:nvPr/>
        </p:nvPicPr>
        <p:blipFill>
          <a:blip r:embed="rId1"/>
          <a:stretch/>
        </p:blipFill>
        <p:spPr>
          <a:xfrm>
            <a:off x="6012000" y="1557360"/>
            <a:ext cx="2598480" cy="3898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02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  <a:ea typeface="MS Mincho"/>
              </a:rPr>
              <a:t>Rolul elevil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88000" y="2565000"/>
            <a:ext cx="352728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09640" indent="-3524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81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eaz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81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az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81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laboreaz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81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iz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81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zolv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b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81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 în situaţii n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MP900439416[2]"/>
          <p:cNvPicPr/>
          <p:nvPr/>
        </p:nvPicPr>
        <p:blipFill>
          <a:blip r:embed="rId1"/>
          <a:stretch/>
        </p:blipFill>
        <p:spPr>
          <a:xfrm>
            <a:off x="611280" y="1628640"/>
            <a:ext cx="396072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02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Rolul pǎrinţil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424944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0280" indent="-447840">
              <a:spcBef>
                <a:spcPts val="15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e interesează permanent cu privire la activităţile echipelor de pro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447840">
              <a:spcBef>
                <a:spcPts val="15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rijină şi încurajează proprii copii şi pe colegii acestora pe parcursul derulării proiecte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MP900430493[2]"/>
          <p:cNvPicPr/>
          <p:nvPr/>
        </p:nvPicPr>
        <p:blipFill>
          <a:blip r:embed="rId1"/>
          <a:stretch/>
        </p:blipFill>
        <p:spPr>
          <a:xfrm>
            <a:off x="5364000" y="1916280"/>
            <a:ext cx="324036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01:39:31Z</dcterms:created>
  <dc:creator>eu</dc:creator>
  <dc:description/>
  <dc:language>en-US</dc:language>
  <cp:lastModifiedBy>am</cp:lastModifiedBy>
  <dcterms:modified xsi:type="dcterms:W3CDTF">2011-02-09T20:38:48Z</dcterms:modified>
  <cp:revision>19</cp:revision>
  <dc:subject/>
  <dc:title>INTEL-TEACH</dc:title>
</cp:coreProperties>
</file>